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highchime.wav" ContentType="audio/x-wav"/>
  <Override PartName="/ppt/media/hzipup01.wav" ContentType="audio/x-wav"/>
  <Override PartName="/ppt/media/meepmee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D87-9628-4B68-89C9-77A127C4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E0E-BDF0-43B7-B005-EA9D0AB8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8C2-CEE1-4A78-B002-F67DBC40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1F0-1E7F-4C45-960B-43D8D4CE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011-465C-4698-B298-193EADEC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6F8-50F1-402B-B279-8DC4B4D0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0159-49A3-43E0-A3E0-AA5A7E95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E6E-80D2-42E7-980B-FF3DA8C8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2BC-F03B-4FC5-80BD-A9CF656F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C3F-1350-4966-94ED-CE836F16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ACE-36CE-4AAC-BA63-BCF71704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680-1FED-4470-97AE-460463D5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FAF8-DE1E-4A1E-94F4-04D2C5CC3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bserie06.wav"/><Relationship Id="rId9" Type="http://schemas.openxmlformats.org/officeDocument/2006/relationships/audio" Target="../media/zipdn10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caralarmoff.wav"/><Relationship Id="rId7" Type="http://schemas.openxmlformats.org/officeDocument/2006/relationships/audio" Target="../media/meepmeep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caralarmoff.wav"/><Relationship Id="rId5" Type="http://schemas.openxmlformats.org/officeDocument/2006/relationships/audio" Target="../media/meepmeep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meepmeep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caralarmoff.wav"/><Relationship Id="rId5" Type="http://schemas.openxmlformats.org/officeDocument/2006/relationships/audio" Target="../media/meepmeep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357120" y="722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____  ____  ____ .  ____  ____ 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3600000">
            <a:off x="65520" y="2387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undr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3600000">
            <a:off x="1346400" y="237924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3600000">
            <a:off x="2624400" y="2360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3600000">
            <a:off x="4254840" y="242532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en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3600000">
            <a:off x="5528880" y="247896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undre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3600000">
            <a:off x="6627960" y="2360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housan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78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ive the value of each dig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0840" y="4237200"/>
            <a:ext cx="183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1.  1.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8520" y="4941720"/>
            <a:ext cx="70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8280" y="494352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89680" y="4950000"/>
            <a:ext cx="21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thirty-s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90360" y="4950000"/>
            <a:ext cx="26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hundre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7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2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7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2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7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2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2034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13, 5 – 1 #1-12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15, 5 – 2 #1-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2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357120" y="722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____  ____  ____ .  ____  ____ 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3600000">
            <a:off x="65520" y="2387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undr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3600000">
            <a:off x="1346400" y="237924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3600000">
            <a:off x="2624400" y="2360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3600000">
            <a:off x="4254840" y="242532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en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3600000">
            <a:off x="5528880" y="247896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undre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3600000">
            <a:off x="6627960" y="2360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housan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578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ive the value of each dig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0840" y="4237200"/>
            <a:ext cx="22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2.  21.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7440" y="4956120"/>
            <a:ext cx="706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Twenty-on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08800" y="495612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24720" y="496404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forty-f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36560" y="4964040"/>
            <a:ext cx="26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hundre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357120" y="722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____  ____  ____ .  ____  ____ 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3600000">
            <a:off x="65520" y="2387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undr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3600000">
            <a:off x="1346400" y="237924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3600000">
            <a:off x="2624400" y="2360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3600000">
            <a:off x="4254840" y="242532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en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3600000">
            <a:off x="5528880" y="247896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undre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3600000">
            <a:off x="6627960" y="2360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housan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578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ive the value of each dig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0840" y="4237200"/>
            <a:ext cx="259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3.  305.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7440" y="4956120"/>
            <a:ext cx="706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Three hundred and fi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8200" y="565164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34120" y="565956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th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16800" y="5659560"/>
            <a:ext cx="28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thousan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357120" y="722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____  ____  ____ .  ____  ____  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3600000">
            <a:off x="65520" y="2387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undre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3600000">
            <a:off x="1346400" y="237924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3600000">
            <a:off x="2624400" y="2360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3600000">
            <a:off x="4254840" y="242532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en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3600000">
            <a:off x="5528880" y="247896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hundre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3600000">
            <a:off x="6627960" y="236016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Times New Roman"/>
              </a:rPr>
              <a:t>thousan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578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ive the value of each dig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0840" y="4237200"/>
            <a:ext cx="259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4.  42.1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7440" y="4956120"/>
            <a:ext cx="706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Forty-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34040" y="495612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600" y="5600880"/>
            <a:ext cx="507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one hundred and e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44080" y="5602320"/>
            <a:ext cx="28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thousan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43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pare the numb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8440" y="1387440"/>
            <a:ext cx="62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5.  3.017  and  3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68280" y="215100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3.0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78320" y="205416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35320" y="21556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3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48200" y="1387440"/>
            <a:ext cx="11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4520" y="2987640"/>
            <a:ext cx="62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6.  7.2   and  7.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14360" y="375120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7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97440" y="36702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07640" y="375912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7.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9560" y="2987640"/>
            <a:ext cx="11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4640" y="4556160"/>
            <a:ext cx="62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7.  9.301  and  9.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4840" y="5319720"/>
            <a:ext cx="15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9.3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84520" y="522288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41160" y="532440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9.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54400" y="4556160"/>
            <a:ext cx="11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43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ound to the nearest hundred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81240" y="1324080"/>
            <a:ext cx="326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1.  </a:t>
            </a:r>
            <a:r>
              <a:rPr b="0" lang="en-US" sz="6000" spc="-1" strike="noStrike">
                <a:solidFill>
                  <a:srgbClr val="663300"/>
                </a:solidFill>
                <a:latin typeface="Times New Roman"/>
              </a:rPr>
              <a:t>7.82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92480" y="1333440"/>
            <a:ext cx="85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48240" y="216864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8960" y="2279520"/>
            <a:ext cx="847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Since the 3 in the thousandths place is lower than 5, the 2 in the hundredths place stays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41520" y="429912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.8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43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ound to the nearest hundred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81240" y="1324080"/>
            <a:ext cx="326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2.  </a:t>
            </a:r>
            <a:r>
              <a:rPr b="0" lang="en-US" sz="6000" spc="-1" strike="noStrike">
                <a:solidFill>
                  <a:srgbClr val="663300"/>
                </a:solidFill>
                <a:latin typeface="Times New Roman"/>
              </a:rPr>
              <a:t>6.23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92480" y="1333440"/>
            <a:ext cx="85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48240" y="216864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8960" y="2279520"/>
            <a:ext cx="847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Since the 7 in the thousandths place is higher than 5, the 3 in the hundredths place becomes a 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41520" y="429912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.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43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ound to the nearest ten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81240" y="1324080"/>
            <a:ext cx="326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3.  </a:t>
            </a:r>
            <a:r>
              <a:rPr b="0" lang="en-US" sz="6000" spc="-1" strike="noStrike">
                <a:solidFill>
                  <a:srgbClr val="663300"/>
                </a:solidFill>
                <a:latin typeface="Times New Roman"/>
              </a:rPr>
              <a:t>12.5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92480" y="1333440"/>
            <a:ext cx="85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48240" y="216864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8960" y="2279520"/>
            <a:ext cx="847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Since the 7 in the hundredths place is higher than 5, the 5 in the tenths place becomes a 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41520" y="429912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2.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43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ound to the nearest ten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81240" y="1324080"/>
            <a:ext cx="326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4.  </a:t>
            </a:r>
            <a:r>
              <a:rPr b="0" lang="en-US" sz="6000" spc="-1" strike="noStrike">
                <a:solidFill>
                  <a:srgbClr val="663300"/>
                </a:solidFill>
                <a:latin typeface="Times New Roman"/>
              </a:rPr>
              <a:t>45.9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92480" y="1333440"/>
            <a:ext cx="85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48240" y="216864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8960" y="2279520"/>
            <a:ext cx="847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Since the 6 in the hundredths place is higher than 5, the 9 in the tenths place becomes a 10, which will make the 5 in the ones place a 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9720" y="496872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6.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0-11T18:15:07Z</dcterms:modified>
  <cp:revision>59</cp:revision>
  <dc:subject/>
  <dc:title>Slide 1</dc:title>
</cp:coreProperties>
</file>